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png" ContentType="image/png"/>
  <Override PartName="/ppt/media/image10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4688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C657-BAB7-482E-9256-A893F7319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A1DD-F766-4483-A822-2602CAF7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C63D-F792-4CEC-A7BA-926D10FCD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849C-45B7-4F39-9A8B-542C39FCA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6A52-6C71-420A-9A80-F2E1E453E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DB91-785F-4C8C-9A51-3EC249DC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9FC6-2408-44CB-8933-9A5A8759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2F40-36DC-4DDC-B7A1-5385007C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4937-AFEB-4975-9C4F-3C99F83A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F2C5-51D5-4CF4-9C92-AD783AD9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B56C-DF63-4448-8A60-009121E0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D1FE-CC14-4AA3-933D-4CE2BC18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ADE0-D1BA-433C-B593-6665A700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D57F-1B97-41CE-8B3B-FA910D36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8214-EBA3-4AB5-AA67-BDC6FE73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9764-0C8D-48E1-8F7D-9831A04DC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2A76-711B-457B-A9FB-47E9B7A03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0D6F-3011-4884-82BE-FDA4A483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00D0-A4AF-4640-83D9-FD79C8EE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8CA8-96BA-4BDB-8CC0-904F9DFE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76C2-AE48-47E6-B336-B9190A5F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F49F-D397-4EFA-B323-95409DFB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EE9A-53BF-4C01-8D90-675C9070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BAFC-E5DF-48F4-ACA5-38BD6E7D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801B-3B6D-4DF6-978D-C8227AA2068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7F27-BDF7-4E38-95D0-40576A8E208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Ampstamp@yahoo.com" TargetMode="External"/><Relationship Id="rId3" Type="http://schemas.openxmlformats.org/officeDocument/2006/relationships/hyperlink" Target="mailto:Ampstamp@yahoo.com" TargetMode="External"/><Relationship Id="rId4" Type="http://schemas.openxmlformats.org/officeDocument/2006/relationships/hyperlink" Target="mailto:Grommet1@pacbell.net" TargetMode="External"/><Relationship Id="rId5" Type="http://schemas.openxmlformats.org/officeDocument/2006/relationships/hyperlink" Target="mailto:Grommet1@pacbell.net" TargetMode="External"/><Relationship Id="rId6" Type="http://schemas.openxmlformats.org/officeDocument/2006/relationships/hyperlink" Target="mailto:Grommet1@pacbell.net" TargetMode="External"/><Relationship Id="rId7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81080" y="1447920"/>
            <a:ext cx="5105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HE AMPSTAM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752480" y="2590920"/>
            <a:ext cx="5486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ottest Thing Since Solder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ampstamp" descr=""/>
          <p:cNvPicPr/>
          <p:nvPr/>
        </p:nvPicPr>
        <p:blipFill>
          <a:blip r:embed="rId1"/>
          <a:stretch/>
        </p:blipFill>
        <p:spPr>
          <a:xfrm>
            <a:off x="6172200" y="3733920"/>
            <a:ext cx="1828800" cy="1687320"/>
          </a:xfrm>
          <a:prstGeom prst="rect">
            <a:avLst/>
          </a:prstGeom>
          <a:ln w="0">
            <a:noFill/>
          </a:ln>
        </p:spPr>
      </p:pic>
      <p:pic>
        <p:nvPicPr>
          <p:cNvPr id="211" name="header" descr=""/>
          <p:cNvPicPr/>
          <p:nvPr/>
        </p:nvPicPr>
        <p:blipFill>
          <a:blip r:embed="rId2"/>
          <a:stretch/>
        </p:blipFill>
        <p:spPr>
          <a:xfrm>
            <a:off x="914400" y="3886200"/>
            <a:ext cx="419112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Box Install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fect, snug fi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slo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ighter tolera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7" name="AS%20Job%2011.1" descr="Rectangle: Click to edit Master text styles&#13;&#10;Second level&#13;&#10;Third level&#13;&#10;Fourth level&#13;&#10;Fifth level"/>
          <p:cNvPicPr/>
          <p:nvPr/>
        </p:nvPicPr>
        <p:blipFill>
          <a:blip r:embed="rId4"/>
          <a:stretch/>
        </p:blipFill>
        <p:spPr>
          <a:xfrm>
            <a:off x="838080" y="1998720"/>
            <a:ext cx="381024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x In Pl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ight, secure and professional prepar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0" name="AS%20Job%2012.1" descr="Rectangle: Click to edit Master text styles&#13;&#10;Second level&#13;&#10;Third level&#13;&#10;Fourth level&#13;&#10;Fifth level"/>
          <p:cNvPicPr/>
          <p:nvPr/>
        </p:nvPicPr>
        <p:blipFill>
          <a:blip r:embed="rId2"/>
          <a:stretch/>
        </p:blipFill>
        <p:spPr>
          <a:xfrm>
            <a:off x="841320" y="1905120"/>
            <a:ext cx="3801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Finished Product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ean, professional finish, everyti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cellent also for Strobes, Switches or any mountable devic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3" name="AS%20Job%2015.2" descr="Rectangle: Click to edit Master text styles&#13;&#10;Second level&#13;&#10;Third level&#13;&#10;Fourth level&#13;&#10;Fifth level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309680" y="1905120"/>
            <a:ext cx="2867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stimonia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real time saver when cutting in strobes off a ladder.” – Tom Corey -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aved my knees on the first job.” Bill Finnerty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ynamite when cutting in plugs in cabinets or any restricted spaces.” John Mc Gow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any Profi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mpstamp Inc. is a California Corporation and sole owner of Patent Rights to the Ampstamp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mpstamp Inc. welcomes qualified partners to license production, marketing and distribution right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ontact Inf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838080" y="1676520"/>
            <a:ext cx="7239240" cy="36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tact Info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ul Peterson CEO, Pres, Invent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Voice 415.564.3456 Fax 415.564.3456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Ampstamp</a:t>
            </a:r>
            <a:r>
              <a:rPr b="0" lang="en-US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@yahoo.com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ike Peterson V.P Sales and Market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Voice 415.661.8972 Fax 801.881.0929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Grommet1@</a:t>
            </a:r>
            <a:r>
              <a:rPr b="0" lang="en-US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pacbell</a:t>
            </a:r>
            <a:r>
              <a:rPr b="0" lang="en-US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.ne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2511 38</a:t>
            </a:r>
            <a:r>
              <a:rPr b="0" lang="en-US" sz="2000" spc="-1" strike="noStrike" baseline="30000">
                <a:solidFill>
                  <a:srgbClr val="40458c"/>
                </a:solidFill>
                <a:latin typeface="Tahoma"/>
              </a:rPr>
              <a:t>th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Avenue, S.F. CA, 94116-2855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afety Benefi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duces undue neck strain by reducing the amount of time a worker must tilt his or her head backwards to trace the cut-in-box for smoke detectors, track lighting feeds, etc., will minimize neck injury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mproves safety by allowing One-handed use and keeping one hand free for safety.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lows the user to keep a comfortable pace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aves your knees by reducing the amount of time spent kneeling, crouching and crawling in tight spac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duct Benefi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1600200"/>
            <a:ext cx="7788240" cy="62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uts installation time by almost 75%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nables a user to provide a plumb or level template in space restricted areas [i.e. between two desks, a file cabinet, or other immovable object(s).]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chanizes a varied proces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nables the majority of a job to get completed when material does not arrive, or runs out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iminates pencil/pen break on rough surface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Accelerates a new electrician's craftsmanship by giving them practice templates to cut, and ultimately tighter tolerances on installation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duct will pay for itself in it’s first few us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66"/>
                </a:solidFill>
                <a:uFillTx/>
                <a:latin typeface="Tahoma"/>
              </a:rPr>
              <a:t>AMPSTAMP</a:t>
            </a:r>
            <a:r>
              <a:rPr b="0" lang="en-US" sz="4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r>
              <a:rPr b="1" lang="en-US" sz="4400" spc="-1" strike="noStrike" u="sng">
                <a:solidFill>
                  <a:srgbClr val="660066"/>
                </a:solidFill>
                <a:uFillTx/>
                <a:latin typeface="Tahoma"/>
              </a:rPr>
              <a:t>The next great too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credible Advertising Mediu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dustry Wide Us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ime and Effort Sav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orldwide Applic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ase of U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4" name="ampstamp" descr="Rectangle: Click to edit Master text styles&#13;&#10;Second level&#13;&#10;Third level&#13;&#10;Fourth level&#13;&#10;Fifth level"/>
          <p:cNvPicPr/>
          <p:nvPr/>
        </p:nvPicPr>
        <p:blipFill>
          <a:blip r:embed="rId6"/>
          <a:stretch/>
        </p:blipFill>
        <p:spPr>
          <a:xfrm>
            <a:off x="609480" y="1905120"/>
            <a:ext cx="381024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What is the AMPSTAMP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1600200"/>
            <a:ext cx="8251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AmpStamp is a clever tool and advertising medium that Simplifies an extremely common and often difficult proces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t replaces all templates, markers, pencils and pens to perfectly outline and cut in an electrical box, no matter the wall surfac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t stamps the brand name, identity and logo all over jobsites and materials everyday – on any jobsit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MPSTAMP is an invaluable, time and money saving tool. Perhaps even more importantly, it helps avoid injuries and has tremendous commercial potential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sset to a potent product 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5640" y="1676520"/>
            <a:ext cx="6553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requent application / u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umers pay you to do your advertis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umable yet cost effici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prove Brand Identity on Si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igger Reticular Brand awarenes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ree Marketing and branding in target marke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remen, technicians, buyers, manage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9" name="AS%20Imprint" descr="Rectangle: Click to edit Master text styles&#13;&#10;Second level&#13;&#10;Third level&#13;&#10;Fourth level&#13;&#10;Fifth level"/>
          <p:cNvPicPr/>
          <p:nvPr/>
        </p:nvPicPr>
        <p:blipFill>
          <a:blip r:embed="rId7"/>
          <a:stretch/>
        </p:blipFill>
        <p:spPr>
          <a:xfrm>
            <a:off x="685800" y="1600200"/>
            <a:ext cx="1471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HOW AMPSTAMP WOR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hoose work si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te: normally cramped quarters that drawing with a pen or pencil would be difficul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2" name="AS%20Job%201.1" descr="Rectangle: Click to edit Master text styles&#13;&#10;Second level&#13;&#10;Third level&#13;&#10;Fourth level&#13;&#10;Fifth level"/>
          <p:cNvPicPr/>
          <p:nvPr/>
        </p:nvPicPr>
        <p:blipFill>
          <a:blip r:embed="rId3"/>
          <a:stretch/>
        </p:blipFill>
        <p:spPr>
          <a:xfrm>
            <a:off x="990720" y="1676520"/>
            <a:ext cx="2739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Set U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asy Set-u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Just measu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5" name="AS%20Job%203.1" descr="Rectangle: Click to edit Master text styles&#13;&#10;Second level&#13;&#10;Third level&#13;&#10;Fourth level&#13;&#10;Fifth level"/>
          <p:cNvPicPr/>
          <p:nvPr/>
        </p:nvPicPr>
        <p:blipFill>
          <a:blip r:embed="rId4"/>
          <a:stretch/>
        </p:blipFill>
        <p:spPr>
          <a:xfrm>
            <a:off x="906480" y="1905120"/>
            <a:ext cx="3672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reate Impri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ush Gently on hand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ull awa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8" name="AS%20Job%207.1" descr="Rectangle: Click to edit Master text styles&#13;&#10;Second level&#13;&#10;Third level&#13;&#10;Fourth level&#13;&#10;Fifth level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1177920" y="1905120"/>
            <a:ext cx="3129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he 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fectly Clear Templa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umb and Level, even on rough surfa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1" name="AS%20Imprint" descr="Rectangle: Click to edit Master text styles&#13;&#10;Second level&#13;&#10;Third level&#13;&#10;Fourth level&#13;&#10;Fifth level"/>
          <p:cNvPicPr/>
          <p:nvPr/>
        </p:nvPicPr>
        <p:blipFill>
          <a:blip r:embed="rId3"/>
          <a:stretch/>
        </p:blipFill>
        <p:spPr>
          <a:xfrm>
            <a:off x="1461960" y="1905120"/>
            <a:ext cx="2562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he Cut-i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sert Keyhole Saw and cut ou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asy to read outli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guess wor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4" name="AS%20Job%2010.1" descr="Rectangle: Click to edit Master text styles&#13;&#10;Second level&#13;&#10;Third level&#13;&#10;Fourth level&#13;&#10;Fifth level"/>
          <p:cNvPicPr/>
          <p:nvPr/>
        </p:nvPicPr>
        <p:blipFill>
          <a:blip r:embed="rId4"/>
          <a:stretch/>
        </p:blipFill>
        <p:spPr>
          <a:xfrm>
            <a:off x="838080" y="2057400"/>
            <a:ext cx="381024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1T04:35:55Z</dcterms:created>
  <dc:creator>user</dc:creator>
  <dc:description/>
  <dc:language>en-US</dc:language>
  <cp:lastModifiedBy>user</cp:lastModifiedBy>
  <dcterms:modified xsi:type="dcterms:W3CDTF">2002-02-12T10:14:09Z</dcterms:modified>
  <cp:revision>5</cp:revision>
  <dc:subject/>
  <dc:title>THE AMPSTAMP</dc:title>
</cp:coreProperties>
</file>